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5436C-D065-4889-A388-1AAD688592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78AFC-4AED-4CFB-A6B3-3F11579532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416A9-0176-4C5F-B827-EAE46B78DB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1FEE4-5855-49E0-BD12-05C7CBF37DC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AB30E-AA27-4438-A29C-0497F78F338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6CBC2-B5EC-47CB-BE3E-F91ACFB597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ACB74-7581-4312-90F1-AC2061A109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3CAB5-C162-4ECD-A283-3DE87CF415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25468-5914-4DF8-842B-07BB7F7124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9506D-A38E-49C9-8B0D-304DAE9294F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98BA7-4051-48F2-89DC-D5B6992E5F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3EE13-A0CF-4038-B6B2-DB25FB51A4A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6920E-F911-4C1D-9119-F2B2F77BC9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AD1C6-71BA-4CF7-84F4-5A8E6B3525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077CF-78C8-4564-84CB-94AD6E8A7E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BE194-CB25-44D0-8B91-88CF71ABAD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71F0A-854C-4450-8ECA-F2C1CCEDE57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469C6-62AD-46D2-97EF-5CFE0463383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D27DB-5708-44F2-9B1F-5D6A460D69A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046D1-1D51-454B-A74E-B4F848231D5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8BBFF-1F61-4CC9-A0E3-91A169B660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AAAD0-ADE8-46E2-8BC7-9264D60AAA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389A-70AD-4136-8C67-E9BF30AD9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CE76-5C9C-4CAE-A4A7-CF1971A55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B871-A10D-466F-8F22-F0F4317A8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BEA5-97DE-4428-A2F7-A010DB6F2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F89CD-CC0B-4D2F-BD01-7F566B35E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4D0E2-3A93-4617-92A8-03F2F7C34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38F70-9D91-47FE-85D8-03A89C180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40FB7-1F7B-4AAC-AE8D-7F20E5F5D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CC15C-3208-4543-8EB5-7893CC901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EC163-5F58-4CEB-94AE-7935B2875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E92D1-8646-479E-BE3C-3CF425CC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9616-2C1D-4EC4-AF75-BFCEA8B9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D0B58-7119-4986-8824-EF01804B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52ACE-8EA9-46D0-B148-1021C273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815AB-4C59-4239-AC88-401A9C97E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6E406-13B1-4906-A023-A9327AC74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447ED-467D-4DA7-852F-1DD6BED55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36BB-9272-4D5D-82EB-2CED05AD6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7FDF-9142-48E9-B542-11DBB993C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00FA-1E00-4B92-ACC5-979EC1EBC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4944-0330-487D-A494-36B0E4FF1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75C1-845A-4930-B6BC-AF862BE4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1F7F-1842-4304-AD3E-7C1E1EFD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8328-7318-41EA-9BB6-E180593E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4598-B24A-441E-BB7D-20EC80C373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1E8C2-3B76-46A5-8DC0-3761B131A8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7" descr="sheep"/>
          <p:cNvPicPr/>
          <p:nvPr/>
        </p:nvPicPr>
        <p:blipFill>
          <a:blip r:embed="rId1"/>
          <a:stretch/>
        </p:blipFill>
        <p:spPr>
          <a:xfrm>
            <a:off x="5181480" y="0"/>
            <a:ext cx="3962520" cy="3048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chimpanzee"/>
          <p:cNvPicPr/>
          <p:nvPr/>
        </p:nvPicPr>
        <p:blipFill>
          <a:blip r:embed="rId2"/>
          <a:stretch/>
        </p:blipFill>
        <p:spPr>
          <a:xfrm>
            <a:off x="0" y="0"/>
            <a:ext cx="3581280" cy="3048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rat"/>
          <p:cNvPicPr/>
          <p:nvPr/>
        </p:nvPicPr>
        <p:blipFill>
          <a:blip r:embed="rId3"/>
          <a:stretch/>
        </p:blipFill>
        <p:spPr>
          <a:xfrm>
            <a:off x="2743200" y="0"/>
            <a:ext cx="3048120" cy="30481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40ae8"/>
                </a:solidFill>
                <a:latin typeface="Arial Black"/>
              </a:rPr>
              <a:t>Magnificent </a:t>
            </a:r>
            <a:br>
              <a:rPr sz="6600"/>
            </a:br>
            <a:r>
              <a:rPr b="1" lang="en-US" sz="6600" spc="-1" strike="noStrike">
                <a:solidFill>
                  <a:srgbClr val="340ae8"/>
                </a:solidFill>
                <a:latin typeface="Arial Black"/>
              </a:rPr>
              <a:t>Mammals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40ae8"/>
                </a:solidFill>
                <a:latin typeface="Arial"/>
              </a:rPr>
              <a:t>Zo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40ae8"/>
                </a:solidFill>
                <a:latin typeface="Arial"/>
              </a:rPr>
              <a:t>Vertebrates Un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4" descr="bottlenose dolphin"/>
          <p:cNvPicPr/>
          <p:nvPr/>
        </p:nvPicPr>
        <p:blipFill>
          <a:blip r:embed="rId4"/>
          <a:stretch/>
        </p:blipFill>
        <p:spPr>
          <a:xfrm>
            <a:off x="-3048120" y="-2286000"/>
            <a:ext cx="2559240" cy="19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40ae8"/>
                </a:solidFill>
                <a:latin typeface="Arial Black"/>
              </a:rPr>
              <a:t>Placental Mammal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343400" y="1219320"/>
            <a:ext cx="4502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st of animals in many different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or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ve a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gestation perio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ere the developing baby spends a specific time in t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uter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ve a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lacent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is a special organ that surrounds and protects the developing baby and allow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utrient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o pass from mom to bab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ar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domesticat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bred by humans, who are also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lacental mammal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9" descr="rabbit2"/>
          <p:cNvPicPr/>
          <p:nvPr/>
        </p:nvPicPr>
        <p:blipFill>
          <a:blip r:embed="rId1"/>
          <a:stretch/>
        </p:blipFill>
        <p:spPr>
          <a:xfrm>
            <a:off x="0" y="2133720"/>
            <a:ext cx="43434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Order Rodenti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lacental mamm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eeth specialized for gnaw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: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ouse, rat, bea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7" descr="beaver"/>
          <p:cNvPicPr/>
          <p:nvPr/>
        </p:nvPicPr>
        <p:blipFill>
          <a:blip r:embed="rId1"/>
          <a:stretch/>
        </p:blipFill>
        <p:spPr>
          <a:xfrm>
            <a:off x="5011560" y="2319480"/>
            <a:ext cx="3740400" cy="33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40ae8"/>
                </a:solidFill>
                <a:latin typeface="Arial Black"/>
              </a:rPr>
              <a:t>Order Chiropter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lacental mamm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Fl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 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embranou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choloc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use sound waves to locate prey and o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ba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7" descr="bat"/>
          <p:cNvPicPr/>
          <p:nvPr/>
        </p:nvPicPr>
        <p:blipFill>
          <a:blip r:embed="rId1"/>
          <a:stretch/>
        </p:blipFill>
        <p:spPr>
          <a:xfrm>
            <a:off x="228600" y="2133720"/>
            <a:ext cx="44607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Order Insectivor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lacental mamm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ong no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ly ea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s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: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hrew, mo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9" descr="shrew"/>
          <p:cNvPicPr/>
          <p:nvPr/>
        </p:nvPicPr>
        <p:blipFill>
          <a:blip r:embed="rId1"/>
          <a:stretch/>
        </p:blipFill>
        <p:spPr>
          <a:xfrm>
            <a:off x="4724280" y="1981080"/>
            <a:ext cx="4214880" cy="36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40ae8"/>
                </a:solidFill>
                <a:latin typeface="Arial Black"/>
              </a:rPr>
              <a:t>Order Carnivor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lacental mamm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arge carniv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nt for f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: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g, cat. Fox, bear, racco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7" descr="artic fox"/>
          <p:cNvPicPr/>
          <p:nvPr/>
        </p:nvPicPr>
        <p:blipFill>
          <a:blip r:embed="rId1"/>
          <a:stretch/>
        </p:blipFill>
        <p:spPr>
          <a:xfrm>
            <a:off x="457200" y="2133720"/>
            <a:ext cx="392760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Order Primat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apted for living i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re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tellig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pposable thumb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himpanzee, spider monkey, hum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7" descr="chimpanzee"/>
          <p:cNvPicPr/>
          <p:nvPr/>
        </p:nvPicPr>
        <p:blipFill>
          <a:blip r:embed="rId1"/>
          <a:stretch/>
        </p:blipFill>
        <p:spPr>
          <a:xfrm>
            <a:off x="5073480" y="2209680"/>
            <a:ext cx="4070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40ae8"/>
                </a:solidFill>
                <a:latin typeface="Arial Black"/>
              </a:rPr>
              <a:t>Order Artiodactyl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lacental mamm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Ungula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—have hoo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ven-to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rg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um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stomach that helps break dow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lant mate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heep, cow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9" descr="cow"/>
          <p:cNvPicPr/>
          <p:nvPr/>
        </p:nvPicPr>
        <p:blipFill>
          <a:blip r:embed="rId1"/>
          <a:stretch/>
        </p:blipFill>
        <p:spPr>
          <a:xfrm>
            <a:off x="838080" y="2689200"/>
            <a:ext cx="392760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Order Perissodactyl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lacental mamm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gula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has hoov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Odd to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: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ors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rhinoc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7" descr="horse"/>
          <p:cNvPicPr/>
          <p:nvPr/>
        </p:nvPicPr>
        <p:blipFill>
          <a:blip r:embed="rId1"/>
          <a:stretch/>
        </p:blipFill>
        <p:spPr>
          <a:xfrm>
            <a:off x="4917960" y="2527200"/>
            <a:ext cx="3927600" cy="29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40ae8"/>
                </a:solidFill>
                <a:latin typeface="Arial Black"/>
              </a:rPr>
              <a:t>Order Cetace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lacental mamm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arine mamm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cholo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ve blowhole to release g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  whales, dolph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7" descr="killer whale"/>
          <p:cNvPicPr/>
          <p:nvPr/>
        </p:nvPicPr>
        <p:blipFill>
          <a:blip r:embed="rId1"/>
          <a:stretch/>
        </p:blipFill>
        <p:spPr>
          <a:xfrm>
            <a:off x="838080" y="2527200"/>
            <a:ext cx="3927600" cy="29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Order Lagomorph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pair of long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cis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gs specialized f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o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:  rabbits and ha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7" descr="rabbit"/>
          <p:cNvPicPr/>
          <p:nvPr/>
        </p:nvPicPr>
        <p:blipFill>
          <a:blip r:embed="rId1"/>
          <a:stretch/>
        </p:blipFill>
        <p:spPr>
          <a:xfrm>
            <a:off x="5462640" y="1905120"/>
            <a:ext cx="28368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40ae8"/>
                </a:solidFill>
                <a:latin typeface="Arial Black"/>
              </a:rPr>
              <a:t>Classification</a:t>
            </a:r>
            <a:br>
              <a:rPr sz="4400"/>
            </a:br>
            <a:r>
              <a:rPr b="1" lang="en-US" sz="4400" spc="-1" strike="noStrike">
                <a:solidFill>
                  <a:srgbClr val="340ae8"/>
                </a:solidFill>
                <a:latin typeface="Arial Black"/>
              </a:rPr>
              <a:t>of Mammal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mmals are in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ngdom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Animal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lum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hor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phylum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Vertebr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as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Mammal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5" descr="primatemandrill"/>
          <p:cNvPicPr/>
          <p:nvPr/>
        </p:nvPicPr>
        <p:blipFill>
          <a:blip r:embed="rId1"/>
          <a:stretch/>
        </p:blipFill>
        <p:spPr>
          <a:xfrm>
            <a:off x="5334120" y="1981080"/>
            <a:ext cx="32544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40ae8"/>
                </a:solidFill>
                <a:latin typeface="Arial Black"/>
              </a:rPr>
              <a:t>Order Sireni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lacental mamm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rine mammals that live in shallow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:  manatee, dugo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7" descr="manatee"/>
          <p:cNvPicPr/>
          <p:nvPr/>
        </p:nvPicPr>
        <p:blipFill>
          <a:blip r:embed="rId1"/>
          <a:stretch/>
        </p:blipFill>
        <p:spPr>
          <a:xfrm>
            <a:off x="838080" y="2527200"/>
            <a:ext cx="3927600" cy="29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Order Proboscide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obosc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trun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have long incisors (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usk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:  eleph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General Characteristics 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of Mammal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mmals hav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ir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from a lot to a litt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pecialized Tee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ndothermic bodi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warm-blooded, maintain constant body tempera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ammary Glan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used to feed and care for newborn you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lac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most have these—supports and protects the developing embry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iaphrag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muscle that is used for breathing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40ae8"/>
                </a:solidFill>
                <a:latin typeface="Arial Black"/>
              </a:rPr>
              <a:t>Specialized Teeth in Mammal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mmals hav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pecialized tee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ically begin with a “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ilk teeth”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t that they lose to make room f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ermanent tee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7" descr="lionasianbaby"/>
          <p:cNvPicPr/>
          <p:nvPr/>
        </p:nvPicPr>
        <p:blipFill>
          <a:blip r:embed="rId1"/>
          <a:stretch/>
        </p:blipFill>
        <p:spPr>
          <a:xfrm>
            <a:off x="4648320" y="1828800"/>
            <a:ext cx="4495680" cy="36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ypes of Teeth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hap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mammal teeth depends on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func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that too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hree main types of tee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ciso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—bi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nin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—stabbing and hol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ola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—crushing and gri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40ae8"/>
                </a:solidFill>
                <a:latin typeface="Arial Black"/>
              </a:rPr>
              <a:t>If the tooth fits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erent mammals have different types of teeth depending on thei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i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redato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ave large cani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erbivor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ave large, flat mola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7" descr="squirrel"/>
          <p:cNvPicPr/>
          <p:nvPr/>
        </p:nvPicPr>
        <p:blipFill>
          <a:blip r:embed="rId1"/>
          <a:stretch/>
        </p:blipFill>
        <p:spPr>
          <a:xfrm>
            <a:off x="5484960" y="1905120"/>
            <a:ext cx="27939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ree Main Types of Mammal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onotreme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lay egg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rsupia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have pouches used to care for you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lacenta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have a uterus and placent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8" descr="duck billed platypus"/>
          <p:cNvPicPr/>
          <p:nvPr/>
        </p:nvPicPr>
        <p:blipFill>
          <a:blip r:embed="rId1"/>
          <a:stretch/>
        </p:blipFill>
        <p:spPr>
          <a:xfrm>
            <a:off x="685800" y="1523880"/>
            <a:ext cx="2362320" cy="1784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rat"/>
          <p:cNvPicPr/>
          <p:nvPr/>
        </p:nvPicPr>
        <p:blipFill>
          <a:blip r:embed="rId2"/>
          <a:stretch/>
        </p:blipFill>
        <p:spPr>
          <a:xfrm>
            <a:off x="304920" y="3352680"/>
            <a:ext cx="3047760" cy="3048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kangaroo"/>
          <p:cNvPicPr/>
          <p:nvPr/>
        </p:nvPicPr>
        <p:blipFill>
          <a:blip r:embed="rId3"/>
          <a:stretch/>
        </p:blipFill>
        <p:spPr>
          <a:xfrm>
            <a:off x="3048120" y="2057400"/>
            <a:ext cx="16700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40ae8"/>
                </a:solidFill>
                <a:latin typeface="Arial Black"/>
              </a:rPr>
              <a:t>Order Monotremat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gg-laying mammal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nly found i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ustral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ptilian characteristic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a cloaca and egg lay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mammalian features lik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ir and mammary gla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6" descr="spiny anteater"/>
          <p:cNvPicPr/>
          <p:nvPr/>
        </p:nvPicPr>
        <p:blipFill>
          <a:blip r:embed="rId1"/>
          <a:stretch/>
        </p:blipFill>
        <p:spPr>
          <a:xfrm>
            <a:off x="5105520" y="2209680"/>
            <a:ext cx="3801960" cy="38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Order Marsupial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ng are born in a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mmature sta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babie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velop in a pou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re found i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ustralia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ut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possum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located on other conti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kangaroo, wallaby, tasmanian devil, koala, oposs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7" descr="kangaroo"/>
          <p:cNvPicPr/>
          <p:nvPr/>
        </p:nvPicPr>
        <p:blipFill>
          <a:blip r:embed="rId1"/>
          <a:stretch/>
        </p:blipFill>
        <p:spPr>
          <a:xfrm>
            <a:off x="5640480" y="1905120"/>
            <a:ext cx="24829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1T14:37:29Z</dcterms:created>
  <dc:creator>kmcgrady</dc:creator>
  <dc:description/>
  <dc:language>en-US</dc:language>
  <cp:lastModifiedBy>fhsstudent</cp:lastModifiedBy>
  <dcterms:modified xsi:type="dcterms:W3CDTF">2011-05-11T18:58:08Z</dcterms:modified>
  <cp:revision>9</cp:revision>
  <dc:subject/>
  <dc:title>Magnificent  Mammals</dc:title>
</cp:coreProperties>
</file>